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E847-21FE-4043-B25F-B41895461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7B45-5693-4A58-8142-2B9B893C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02FD-61F0-43F8-BA1B-514938063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3B15-9CEB-4917-B02E-E2B5017F7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4846-E22B-4E78-ABBE-0BF837DC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F286-59EE-4B30-B896-BAF6368F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7B06-FAE5-41E4-A631-9A144578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E7C0-EEC9-4B16-9F10-F1588079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B099-2C0D-494C-8EA0-D40F19E3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D9D4-09D8-4166-98DD-7BF67C23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9330-969D-4A5E-AAEB-BBEC81B8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1E3D-FB35-42C9-887E-683C88C6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5394-7A10-48DE-8F73-190654559A8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2F38-3062-4B0E-B5B7-77D936E9C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21932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MỘT SỐ KHÁI NIỆM CƠ BẢ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1724760"/>
            <a:ext cx="883908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hông gian n chiều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ột bộ gồm n số thực được sắp xếp thứ tự, ký hiệu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, i = 1,.. n) được gọi là một điểm n - chiều. Tập hợp các điểm n - chiều được ký hiệu là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{x =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, i = 1,.. n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ng đó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à toạ độ thứ i của điểm 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9460-4DEB-445E-88D1-8796F2EE133E}" type="slidenum">
              <a:t>1</a:t>
            </a:fld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17144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riêng cấp cao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 hàm số f(x,y). Các đạo hàm riêng f’x, f’y được gọi là những đạo hàm riêng cấp 1. Các đạo hàm riêng của đạo hàm riêng cấp 1 nếu tồn tại được gọi là đạo hàm riêng cấp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91960" y="3103560"/>
                <a:ext cx="36957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357800" y="3090960"/>
                <a:ext cx="384480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79360" y="4194000"/>
                <a:ext cx="38466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449600" y="4194000"/>
                <a:ext cx="383544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0" y="53474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ương tự, ta có định nghĩa đạo hàm riêng cấp 3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F9CD-4857-4AD7-8AAF-2FE3E709776D}" type="slidenum">
              <a:t>10</a:t>
            </a:fld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61280" y="531900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320" y="1158120"/>
            <a:ext cx="8915400" cy="24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(Schwarz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trong lân cận nào đó của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àm số f(x,y) tồn tại các đạo hàm riêng và liên tục tại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ì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ại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ịnh lý này cũng đúng cho các đạo hàm riêng cấp cao hơn của n biến số (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7000" y="281880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D1F4-4087-42B1-8347-077B8ED50F61}" type="slidenum">
              <a:t>11</a:t>
            </a:fld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141920"/>
            <a:ext cx="914400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ủa hàm hợp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hàm z = f(u,v) là các hàm số khả vi của u,v và các hàm số u = u(x,y), v = v(x,y) có các đạo hàm riêng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ì tồn tại các đạo hàm riê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163520" y="3220920"/>
                <a:ext cx="276228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u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v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768920" y="3220920"/>
                <a:ext cx="27684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u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v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3807000" y="281880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1880" y="4419000"/>
            <a:ext cx="61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ính z =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v, u = xy, v = x/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A58E-37E0-443C-80C4-6FC62CA37D51}" type="slidenum">
              <a:t>12</a:t>
            </a:fld>
          </a:p>
        </p:txBody>
      </p:sp>
    </p:spTree>
  </p:cSld>
  <p:transition>
    <p:cover dir="u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37600" y="507276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12114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ĐẠO HÀM HÀM 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824120"/>
            <a:ext cx="9144000" cy="20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 hàm số ẩn 1 biế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phương trìn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,y)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tồn tại hàm y = f(x) sao cho F(x,f(x)) = 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thì f được gọi là hàm số ẩn từ phương trình F(x,y)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961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y –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9840-64FD-4D85-9171-73DED945C4B3}" type="slidenum">
              <a:t>13</a:t>
            </a:fld>
          </a:p>
        </p:txBody>
      </p:sp>
    </p:spTree>
  </p:cSld>
  <p:transition>
    <p:cover dir="l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437600" y="5195160"/>
            <a:ext cx="109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440" y="1158120"/>
            <a:ext cx="549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ủa hàm số ẩn 1 biế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749160" y="1758960"/>
                <a:ext cx="12448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109080" y="2890440"/>
            <a:ext cx="5153760" cy="15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ính y’ nế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,y)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axy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,y) = xy –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38E3-A4E7-4903-A7EF-8F681774FF3B}" type="slidenum">
              <a:t>14</a:t>
            </a:fld>
          </a:p>
        </p:txBody>
      </p:sp>
    </p:spTree>
  </p:cSld>
  <p:transition>
    <p:cover dir="lu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1219320"/>
            <a:ext cx="883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 hàm số ẩn 2 biế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phương trình F(x,y,z) = 0. Nếu tồn tại hàm số hai biến z = f(x,y) sao cho F(x,y,z) = 0, với mọi x, y thuộc miền xác định của f, thì f gọi là hàm ẩn từ phương trình F(x,y,z)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440" y="3091680"/>
            <a:ext cx="549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ủa hàm số ẩn 2 biế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62040" y="3763800"/>
                <a:ext cx="1414440" cy="92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568600" y="3695760"/>
                <a:ext cx="14000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3948120" y="353160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1800" y="4860720"/>
            <a:ext cx="6196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ính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xyz = cos(x+y+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FFE3-87AA-466D-BD09-8021A647E71B}" type="slidenum">
              <a:t>15</a:t>
            </a:fld>
          </a:p>
        </p:txBody>
      </p:sp>
    </p:spTree>
  </p:cSld>
  <p:transition>
    <p:cover dir="r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37600" y="5195160"/>
            <a:ext cx="109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118728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CỰC TR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320" y="1691280"/>
            <a:ext cx="9067680" cy="24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ực trị tự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àm số f(x,y) đạt cực đại (cực tiểu) tại điểm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nếu tồn tại một lân cậ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ủa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o cho f(M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(M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 F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gọi chung là cực tr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6840" y="4037760"/>
            <a:ext cx="658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ực trị của hàm số z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4511160"/>
            <a:ext cx="91440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ều kiện cần để có cực tr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là cực trị của f và f có đạo hàm riêng tại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hì: f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0, f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8ABE-C06D-4D1E-9B1E-95D1508B43B0}" type="slidenum">
              <a:t>16</a:t>
            </a:fld>
          </a:p>
        </p:txBody>
      </p:sp>
    </p:spTree>
  </p:cSld>
  <p:transition>
    <p:cover dir="ru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61280" y="541908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113120"/>
            <a:ext cx="9067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ều kiện đủ của cực trị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số z = f(x,y). Tại những điểm thỏa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0, ta gọi định thức Hessi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5333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ực trị hàm số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4x – 2y + 8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705040" y="2162160"/>
                <a:ext cx="21718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H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0" y="3504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ặ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866880" y="3305160"/>
                <a:ext cx="401004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sub>
                    </m:sSub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0" y="4328280"/>
            <a:ext cx="9144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,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: z đạt cực tiể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lt;0,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: z đạt cực đạ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238E-6041-47EF-ADEA-06A086898F41}" type="slidenum">
              <a:t>17</a:t>
            </a:fld>
          </a:p>
        </p:txBody>
      </p:sp>
    </p:spTree>
  </p:cSld>
  <p:transition>
    <p:dissolv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080000"/>
            <a:ext cx="9067680" cy="20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ều kiện đủ của cực trị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số y =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 Tại những điểm thỏa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, giả sử tại đó tồn tại các đạo hàm riêng cấp 2, đặ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 có định thức Hessi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867280" y="2057400"/>
                <a:ext cx="12477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914400" y="2590920"/>
                <a:ext cx="7429680" cy="20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0" y="4587120"/>
            <a:ext cx="914400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,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,…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z đạt cực tiể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lt;0,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,… (-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z đạt cực đạ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5804640"/>
            <a:ext cx="90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ực trị hàm số y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3x - 2y – 4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D6D5-9EC8-4BDD-84BD-29F2DD103756}" type="slidenum">
              <a:t>18</a:t>
            </a:fld>
          </a:p>
        </p:txBody>
      </p:sp>
    </p:spTree>
  </p:cSld>
  <p:transition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14264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ực trị có điều kiệ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ực trị của hàm số z = f(x,y) với điều kiện g(x,y) = c gọi là cực trị có điều kiệ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755800" y="3886200"/>
                <a:ext cx="298476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g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g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0" y="553068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à nhân tử Lagrange, điểm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của hệ trên gọi là điểm dừ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455200"/>
            <a:ext cx="883908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là cực trị có điều kiện trê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ặt hàm Lagrange: L(x,y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f(x,y)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-g(x,y)) với g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g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hông đồng thời bằng 0 thì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8C62-92FD-44F5-B253-D30FA7CE8484}" type="slidenum">
              <a:t>19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1312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hoảng cách 2 điể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=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y = (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3065400" y="2038320"/>
                <a:ext cx="32590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76320" y="3330360"/>
            <a:ext cx="9067680" cy="21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ột số tính chất của 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d(x,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0; d(x,y) = 0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=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d(x,y) = d(y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d(x,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(x,z) + d (z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2021-A7EE-4CF5-9DFD-8DBF04732E34}" type="slidenum">
              <a:t>2</a:t>
            </a:fld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14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điểm dừng của z(x,y), với điều kiện x + y =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581280" y="1676520"/>
                <a:ext cx="241308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0" y="2194920"/>
            <a:ext cx="9144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ở rộng hàm n biến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số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với điều kiện g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c. Hàm Lagrange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L = f + </a:t>
            </a:r>
            <a:r>
              <a:rPr b="0" lang="en-US" sz="2800" spc="-1" strike="noStrike">
                <a:solidFill>
                  <a:srgbClr val="29292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(c-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924280" y="3305160"/>
                <a:ext cx="2790720" cy="26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g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g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4B3E-7B37-468A-99CD-8E1BD3E48CA7}" type="slidenum">
              <a:t>20</a:t>
            </a:fld>
          </a:p>
        </p:txBody>
      </p:sp>
    </p:spTree>
  </p:cSld>
  <p:transition>
    <p:newsflash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320" y="1570320"/>
            <a:ext cx="8839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f, g có đạo hàm riêng cấp hai liên tục tại điểm dừng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xét định thức Hessian đó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803680" y="2467080"/>
                <a:ext cx="2936880" cy="16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H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0" y="419112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|H|&gt;0: f đạt cực đại có điều kiệ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|H|&lt;0: f đạt cực đại có điều kiệ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525780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ực trị có điều kiện của hàm số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 6 – 4x – 3y với điều kiện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ều kiện đủ để có cực trị có điều kiệ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31DA-91E1-4F6F-83FA-376AE6D7BAE6}" type="slidenum">
              <a:t>21</a:t>
            </a:fld>
          </a:p>
        </p:txBody>
      </p:sp>
    </p:spTree>
  </p:cSld>
  <p:transition>
    <p:push dir="d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052640"/>
            <a:ext cx="914400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ở rộng hàm n biến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Xét hàm số f(x</a:t>
            </a:r>
            <a:r>
              <a:rPr b="0" lang="en-US" sz="2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,x</a:t>
            </a:r>
            <a:r>
              <a:rPr b="0" lang="en-US" sz="2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,…x</a:t>
            </a:r>
            <a:r>
              <a:rPr b="0" lang="en-US" sz="2800" spc="-1" strike="noStrike" baseline="-25000">
                <a:solidFill>
                  <a:srgbClr val="292929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) với điều kiện g(x</a:t>
            </a:r>
            <a:r>
              <a:rPr b="0" lang="en-US" sz="2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,x</a:t>
            </a:r>
            <a:r>
              <a:rPr b="0" lang="en-US" sz="2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,…x</a:t>
            </a:r>
            <a:r>
              <a:rPr b="0" lang="en-US" sz="2800" spc="-1" strike="noStrike" baseline="-25000">
                <a:solidFill>
                  <a:srgbClr val="292929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) = c. 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àm Lagrange: L = f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-g). Xét tại điểm dừng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ta xét định thức Hessian đó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066760" y="2514600"/>
                <a:ext cx="4486320" cy="259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0" y="5196600"/>
            <a:ext cx="914400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lt;0,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lt;0,…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lt;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z đạt cực tiể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,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lt;0,… (-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z đạt cực đạ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8179-09F4-4116-AC2E-C05A03BC3EAD}" type="slidenum">
              <a:t>22</a:t>
            </a:fld>
          </a:p>
        </p:txBody>
      </p:sp>
    </p:spTree>
  </p:cSld>
  <p:transition>
    <p:push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284960" y="540936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320" y="121896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ực trị hàm số u = x – 2y + 2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ới điều kiện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5F91-2C46-4838-A319-7D20FD715B2D}" type="slidenum">
              <a:t>23</a:t>
            </a:fld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989080"/>
            <a:ext cx="876312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ểm biê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iểm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ược gọi là điểm biên của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mọi lân cận củ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ều chứa ít nhất các điểm x, y: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, 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. Tập hợp mọi điểm biên của D được gọi là biên của 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1083600"/>
            <a:ext cx="87627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ân cậ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à số r &gt; 0. Tập S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r) = {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(x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&lt; r} được gọi là một lân cận củ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320" y="2042280"/>
            <a:ext cx="87627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ểm tro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iểm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ược gọi là điểm trong của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D chứa một lân cận củ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8762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ập đó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biên của D thuộc 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5000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ập mở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biên của D không thuộc 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3A6C-3570-4F1D-8B6D-26DA7B308BCD}" type="slidenum">
              <a:t>3</a:t>
            </a:fld>
          </a:p>
        </p:txBody>
      </p:sp>
    </p:spTree>
  </p:cSld>
  <p:transition>
    <p:zoom dir="in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114264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àm 2 biế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một ánh xạ f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, được gọi là hàm số 2 biến. Ký hiệ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068720" y="1676520"/>
                <a:ext cx="309420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↦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76320" y="2068920"/>
            <a:ext cx="868680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: miền xác đị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D) = {z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: z = f(x,y)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,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} gọi là miền giá tr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6840" y="3195360"/>
            <a:ext cx="4272840" cy="15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miền xác địn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= 2x – 3y +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= ln(x + y 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908600" y="3683160"/>
                <a:ext cx="220968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76320" y="484452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àm n biế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một ánh xạ f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 được gọi là hàm số n biến. Ký hiệ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504800" y="5829480"/>
                <a:ext cx="52390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↦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163A-9941-4612-A195-5C7F416A28AA}" type="slidenum">
              <a:t>4</a:t>
            </a:fld>
          </a:p>
        </p:txBody>
      </p:sp>
    </p:spTree>
  </p:cSld>
  <p:transition>
    <p:zoom dir="ou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GIỚI HẠN VÀ TÍNH LIÊN TỤC CỦA HÀM S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661400"/>
            <a:ext cx="9067680" cy="20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iới hạn hàm số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f(x,y) xác định tại lân cận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có thể  không xác định tại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Số thực L được gọi là giới hạn của f khi M(x,y) tiến đến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nế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0: d(M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&l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M) – L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744560" y="3975120"/>
                <a:ext cx="4808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,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-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-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28600" y="4971960"/>
                <a:ext cx="218448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M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717640" y="4986360"/>
                <a:ext cx="333396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426360" y="4927680"/>
                <a:ext cx="230472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m</m:t>
                    </m:r>
                    <m:limLow>
                      <m:e>
                        <m:eqArr>
                          <m:e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eqArr>
                      </m:e>
                      <m:lim>
                        <m:r>
                          <m:t xml:space="preserve">y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2601-4E3D-47EE-950F-83F0D7348704}" type="slidenum">
              <a:t>5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236600"/>
            <a:ext cx="906768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ái niệm vô hạn cũng được định nghĩa tương tự như đối với hàm số một biế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ác định lý về giới hạn của tổng, tích, thương đối với hàm số một biến cũng đúng cho hàm số nhiều biế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320" y="3720240"/>
            <a:ext cx="275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5562720" y="3551400"/>
                <a:ext cx="30477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(</m:t>
                        </m:r>
                        <m:r>
                          <m:t xml:space="preserve">0,0</m:t>
                        </m:r>
                        <m:r>
                          <m:t xml:space="preserve">)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219320" y="3492360"/>
                <a:ext cx="35305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(</m:t>
                        </m:r>
                        <m:r>
                          <m:t xml:space="preserve">0,0</m:t>
                        </m:r>
                        <m:r>
                          <m:t xml:space="preserve">)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BDAB-24D4-4367-BFDA-31550A1126E5}" type="slidenum">
              <a:t>6</a:t>
            </a:fld>
          </a:p>
        </p:txBody>
      </p:sp>
    </p:spTree>
  </p:cSld>
  <p:transition>
    <p:checker dir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320" y="1112760"/>
            <a:ext cx="871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ên tục của hà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 được gọi là liên tục tại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nế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073240" y="1735200"/>
                <a:ext cx="440388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0" y="2543040"/>
            <a:ext cx="8847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f(x,y) liên tục trên một tập đóng và bị chặn trên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ì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ồn tại số M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f(x,y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đạt giá trị lớn nhất và nhỏ nhất trên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4495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ương tự ta có thể định nghĩa giới hạn và sự liên tục của hàm số đối với hàm n biến (n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≥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7E4E-FEE4-40CA-B58C-FD84F7404C3A}" type="slidenum">
              <a:t>7</a:t>
            </a:fld>
          </a:p>
        </p:txBody>
      </p:sp>
    </p:spTree>
  </p:cSld>
  <p:transition>
    <p:comb dir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1219320"/>
            <a:ext cx="8763120" cy="45972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ĐẠO HÀM RIÊ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740240"/>
            <a:ext cx="883908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z = f(x,y) xác định trong miền D,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. Nếu cho y =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à hằng số, hàm số một biến f(x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có đạo hàm tại x 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được gọi là đạo hàm riêng của f đối với x tại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Ký hiệ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544760" y="3657600"/>
                <a:ext cx="50338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0" y="4618080"/>
            <a:ext cx="906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ặ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,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-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 Số gia riêng của f tại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903400" y="5389560"/>
                <a:ext cx="22021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f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F974-E81A-4901-8F14-BA7E58B47052}" type="slidenum">
              <a:t>8</a:t>
            </a:fld>
          </a:p>
        </p:txBody>
      </p:sp>
    </p:spTree>
  </p:cSld>
  <p:transition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05048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ương tự ta cũng có định nghĩa đạo hàm riêng của f theo biến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830680" y="1620720"/>
                <a:ext cx="209232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y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f</m:t>
                        </m:r>
                      </m:num>
                      <m:den>
                        <m:r>
                          <m:t xml:space="preserve">Δ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0" y="26665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ương tự ta cũng có đạo hàm riêng đối với hàm n biến số (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320" y="3733200"/>
            <a:ext cx="86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ính các đạo hàm riê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308240" y="4309920"/>
                <a:ext cx="31874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405080" y="5021280"/>
                <a:ext cx="94428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CEF9-A732-4332-92CE-687FFA425A90}" type="slidenum">
              <a:t>9</a:t>
            </a:fld>
          </a:p>
        </p:txBody>
      </p:sp>
    </p:spTree>
  </p:cSld>
  <p:transition>
    <p:cover dir="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9T13:32:52Z</dcterms:created>
  <dc:creator>Acer</dc:creator>
  <dc:description/>
  <dc:language>en-US</dc:language>
  <cp:lastModifiedBy>m</cp:lastModifiedBy>
  <dcterms:modified xsi:type="dcterms:W3CDTF">2009-11-08T13:28:05Z</dcterms:modified>
  <cp:revision>788</cp:revision>
  <dc:subject/>
  <dc:title>Nguyên lý thống kê</dc:title>
</cp:coreProperties>
</file>